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74174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DC19B-D2E8-4AE9-AFF7-B5433734BC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F4F0F-6856-49BE-872A-30527329D0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68BC7-1640-44DF-B178-CEF1C4E3FC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85D01-71BB-4757-90F1-889D0F3C39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846CF-F4A6-478A-AB58-ABA2F92EF8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46361-FD43-47EE-8CFD-4449D58990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8D094-AFC9-4D60-8E44-EA0433355D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4DEAB-711A-4B38-8F0E-C20072A316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100A0-8738-4F91-8959-6F10AC9863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9F0E3-837C-4403-AF7B-41A5AD14DC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69B36-0EA8-485A-84A1-8FC1E00C79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C68EA-7DF3-414E-BAE1-2AFE533344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BE621-D4DC-43A5-91F1-48F6238187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289F4-911C-4075-B644-D23B59950B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4BB64-B79C-4897-BCF7-47CA62AF5B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3FD90-7CCF-418F-9763-4B4D2DCA22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A0F32-E1BC-4BA9-9904-080DD2B0CA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BE63-C859-4265-B79E-F11F0AA21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D7EB-0E85-4C99-A5CC-EA96C5746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D86B-24B1-4B4B-9057-F9B2D9A4A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BEB2-9B32-490B-8B75-0AC00DEC1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7490-272B-49A6-AEDA-9DCD9D56A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82D5-C431-413A-B743-DCDB7A909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BCBB-1492-4696-8A0F-11F7223D2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8810-2684-4F88-93A8-0089526E2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5106-C17A-4619-9FC7-260DC5A0F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9F20-9733-46F4-BF32-9DD3DA8ED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C53C-EDE5-4D73-BBAD-A78532A89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54DA-854D-4CAD-9D4A-C22ECECAE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74174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5c89c2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710BB-CEB7-4BCA-B842-944D2AAF2D02}" type="slidenum">
              <a:rPr b="0" lang="en-GB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top_stripe"/>
          <p:cNvPicPr/>
          <p:nvPr/>
        </p:nvPicPr>
        <p:blipFill>
          <a:blip r:embed="rId2"/>
          <a:srcRect l="0" t="0" r="3999" b="0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6" name="Text Box 8"/>
          <p:cNvSpPr/>
          <p:nvPr/>
        </p:nvSpPr>
        <p:spPr>
          <a:xfrm>
            <a:off x="6657120" y="560520"/>
            <a:ext cx="2116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ffff"/>
                </a:solidFill>
                <a:latin typeface="Verdana"/>
              </a:rPr>
              <a:t>http://www.bized.co.uk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9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25560">
            <a:solidFill>
              <a:srgbClr val="1741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Text Box 10"/>
          <p:cNvSpPr/>
          <p:nvPr/>
        </p:nvSpPr>
        <p:spPr>
          <a:xfrm>
            <a:off x="7027200" y="6583320"/>
            <a:ext cx="194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Verdana"/>
              </a:rPr>
              <a:t>Copyright 2006 – Biz/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50632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33"/>
                </a:solidFill>
                <a:latin typeface="Verdana"/>
              </a:rPr>
              <a:t>Market Research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74174"/>
                </a:solidFill>
                <a:latin typeface="Verdana"/>
              </a:rPr>
              <a:t>Market Research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e569a"/>
                </a:solidFill>
                <a:latin typeface="Verdana"/>
              </a:rPr>
              <a:t>Cluster Samp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rimarily based on geographical areas or ‘clusters’ that can be seen as being representative of the whole popul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e569a"/>
                </a:solidFill>
                <a:latin typeface="Verdana"/>
              </a:rPr>
              <a:t>Multi-Stage Samp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ample selected from multi-stage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ub-gro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e569a"/>
                </a:solidFill>
                <a:latin typeface="Verdana"/>
              </a:rPr>
              <a:t>Snowball Samp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amples developed from contacts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f existing customers – ‘word of mouth’ type approach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944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Verdana"/>
              </a:rPr>
              <a:t>Primary Research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pic>
        <p:nvPicPr>
          <p:cNvPr id="72" name="Picture 4" descr="$4$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74174"/>
                </a:solidFill>
                <a:latin typeface="Verdana"/>
              </a:rPr>
              <a:t>Market Research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e569a"/>
                </a:solidFill>
                <a:latin typeface="Verdana"/>
              </a:rPr>
              <a:t>Primary Researc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irst hand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xpensive to collect, analyse and evalu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an be highly focussed and releva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are needs to be taken with the approach and methodology to ensure accura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ypes of question – closed – limited information gained; open – useful information but difficult to analy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74174"/>
                </a:solidFill>
                <a:latin typeface="Verdana"/>
              </a:rPr>
              <a:t>Market Research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e569a"/>
                </a:solidFill>
                <a:latin typeface="Verdana"/>
              </a:rPr>
              <a:t>Quantitative and Qualitative Information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e569a"/>
                </a:solidFill>
                <a:latin typeface="Verdana"/>
              </a:rPr>
              <a:t>Quantitative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– based on numbers – 56% of 18 year olds drink alcohol at least four times a week - doesn’t tell you why, when, how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e569a"/>
                </a:solidFill>
                <a:latin typeface="Verdana"/>
              </a:rPr>
              <a:t>Qualitative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– more detail – tells you why, when and how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944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Verdana"/>
              </a:rPr>
              <a:t>Purpose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pic>
        <p:nvPicPr>
          <p:cNvPr id="78" name="Picture 4" descr="$3$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74174"/>
                </a:solidFill>
                <a:latin typeface="Verdana"/>
              </a:rPr>
              <a:t>Market Research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e569a"/>
                </a:solidFill>
                <a:latin typeface="Verdana"/>
              </a:rPr>
              <a:t>Advantages of Market Researc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Helps focus attention on objecti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ids forecasting, planning and strategic develo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ay help to reduce risk of new product develo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mmunicates image, vision, etc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Globalisation makes market information valuable (HSBC adverts!!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74174"/>
                </a:solidFill>
                <a:latin typeface="Verdana"/>
              </a:rPr>
              <a:t>Market Research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e569a"/>
                </a:solidFill>
                <a:latin typeface="Verdana"/>
              </a:rPr>
              <a:t>Disadvantages of Market Researc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formation only as good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s the methodology u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an be inaccurate or unreli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sults may not be what the business wants to hear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ay stifle initiative and ‘gut feeling’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lways a problem that we may never know enough to be sure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944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33"/>
                </a:solidFill>
                <a:latin typeface="Verdana"/>
              </a:rPr>
              <a:t>Market Research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pic>
        <p:nvPicPr>
          <p:cNvPr id="54" name="Picture 4" descr="$0$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944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Verdana"/>
              </a:rPr>
              <a:t>Secondary Research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pic>
        <p:nvPicPr>
          <p:cNvPr id="56" name="Picture 4" descr="$1$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944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Verdana"/>
              </a:rPr>
              <a:t>Internal Sources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196720"/>
            <a:ext cx="7772400" cy="178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mpany Accou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ternal Reports and Analys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ock Analys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tail data - loyalty cards, till data,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944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Verdana"/>
              </a:rPr>
              <a:t>External Sources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196720"/>
            <a:ext cx="77724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Government Statistics (ON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U - Euro St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rade public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mmercial Data - Gallup, Mintel,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Household Expenditure Surve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agazine survey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ther firms’ resear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search documents – publications, journals,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944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Verdana"/>
              </a:rPr>
              <a:t>Sampling Methods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pic>
        <p:nvPicPr>
          <p:cNvPr id="62" name="Picture 4" descr="$2$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74174"/>
                </a:solidFill>
                <a:latin typeface="Verdana"/>
              </a:rPr>
              <a:t>Market Research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e569a"/>
                </a:solidFill>
                <a:latin typeface="Verdana"/>
              </a:rPr>
              <a:t>Sampling Method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e569a"/>
                </a:solidFill>
                <a:latin typeface="Verdana"/>
              </a:rPr>
              <a:t>Random Samples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– equal chance of anyone being pick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ay select those not in the target group – indiscrimin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mple sizes may need to be large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o be representa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an be very expens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74174"/>
                </a:solidFill>
                <a:latin typeface="Verdana"/>
              </a:rPr>
              <a:t>Market Research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e569a"/>
                </a:solidFill>
                <a:latin typeface="Verdana"/>
              </a:rPr>
              <a:t>Stratified or Segment Random Sampl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mples on the basis of a representative strata or seg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ill random but more focus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ay give more relevan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ay be more cost effec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74174"/>
                </a:solidFill>
                <a:latin typeface="Verdana"/>
              </a:rPr>
              <a:t>Market Research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e569a"/>
                </a:solidFill>
                <a:latin typeface="Verdana"/>
              </a:rPr>
              <a:t>Quota Sampl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gain – by seg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ot randomly selec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pecific number on each segment are interviewed, et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ay not be fully representa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heaper metho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7T15:36:54Z</dcterms:created>
  <dc:creator>A Ashwin</dc:creator>
  <dc:description/>
  <dc:language>en-US</dc:language>
  <cp:lastModifiedBy>Ernest Reichelt</cp:lastModifiedBy>
  <dcterms:modified xsi:type="dcterms:W3CDTF">2013-05-29T10:41:33Z</dcterms:modified>
  <cp:revision>19</cp:revision>
  <dc:subject/>
  <dc:title>###Market Research - PowerPoint Presentation###</dc:title>
</cp:coreProperties>
</file>